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3674-10A5-4B57-9EB3-583D5D316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79A1-E39F-4116-8FE0-10D089D9C907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F4D-0FB2-40AF-BD9A-77906FEF6A4A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3D30-E58A-4A6E-BC84-A3E9A9CDFBC5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04FC-C321-4683-80F3-2EF1F0D81140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2998-91ED-4D1A-AC86-FCD8E66E86C2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4E9-9A41-44D8-BDEA-4BA64E57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B11-BB53-452C-9B91-8D26EF83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8F6BD-C299-458E-BE43-8DC8E6B8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9680E-8DF0-4DEB-B16F-79D21589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D66FB-A0D3-46AD-B7F5-828251FD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4B587-90E0-45D1-BC13-749F5FFE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01BC1-8FA3-4FE2-849A-0E4A520E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43D89-DA2F-4045-A955-D662CDBB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746CE-0C35-4EE1-ACC6-BEB96B4C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7C6E3-03A4-4CF3-9B38-D7DF7409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D8789-7146-4FA0-8EDD-B6C734F8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9E099-E365-47D9-AE96-D73696FD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1ED-D60B-4550-A190-2774424F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8E218-4FB8-4C7D-B6C2-D4AB00DD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57BC4-561A-469C-A49F-46E31D45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0BF08-BD7C-4D47-9FD9-8E65B44E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BEE5B-F3BC-4659-B69C-61059016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26D32-BA8D-40E4-B99C-4138E32F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4DFE6-4AC9-47E4-8A81-902D8485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68CF3-2E48-4A40-A99B-DBC1D7F9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633D0-3ECE-4AFC-A8A8-321741A4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CC211-F369-48A0-8CC8-97EA333B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E71A2-C9E9-4C98-9867-DB7AA42D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A11-FF7C-4709-9CAF-2012E665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28E4C-C579-4287-B856-D381AA9D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E5EBE-E188-4C15-A452-9B1F4A26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CCFE8-BF56-490E-A735-3BD96837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1E8E3-86E4-4F9B-8D11-D2E164FC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FB279-A42E-4D4A-A0B5-30D1DBA6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3E15E-4991-4B02-A4FF-889FAB4B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11B25-EF1B-4931-AFBD-C4CE73B1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A3C4C-F872-4921-B1C1-F05081B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4944F-7AD6-49CA-BE73-77E9CF6D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CBD66-74F2-47EB-8663-CC7F8065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5AF6-0AFE-47A2-8166-BC8E6F88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72FF4-B144-49C6-8BF6-BF217429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25643-1215-4DAE-B80B-173AE0D1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28BBF-DEB4-4DAE-93D4-41363975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BC20C-0AB4-4146-B5E3-AE06EB5A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2605A-4008-4E72-93A5-7979C242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43309-7DA0-4D96-B745-847488B9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6CFA0-1866-47BD-B1A3-54E5A537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3364A-92E8-42E4-8027-A0E54ACF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3A4AF-8645-4EBA-8C62-5358402E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0F760-8EEA-4120-8DCC-FF6E159B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4C31-761C-4B3A-B5BD-6E14CE90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DABA2-6DFF-4F58-AE06-2C5206DE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16835-3C31-4FDF-83AB-CAC9DB44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01E85-CA96-4FBA-A764-664DF654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A50F8-98F0-4FEB-B60C-1125EB96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AA689-B8DC-4769-9C19-6085D684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39FD-6367-4C89-A9F4-4830BE32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8AF9-2F04-44EE-A222-2B18234D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2B3A-9CE8-4C87-89A4-143BD4E4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C5B4-8660-4F5A-BB63-F8D428B3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B6BD-FBC4-472E-8602-36AD3C37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15D-377C-450D-949E-5D0DF804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874A-8A79-45A9-99D1-0B3D1D35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BD2D-5A8B-4DEB-A8D5-EA300E1F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4172-032D-42A3-A2BC-A18D5734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2500-8703-41A7-8E03-FDFE6139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0E25-E7F4-4F28-B40E-3EC09B61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0B60-5098-44A6-A62E-0CAA5BEA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E269-1423-4839-B48E-5C9A6B04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EC25-7EDB-400F-B7A6-97308C36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607A-ED05-421D-9BCB-8462AE80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883ED-2654-49E9-A813-D1D743F2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A1D-B8A6-439A-B182-20749E95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F0253-8D72-44D9-8F56-436D2014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22CB8-CBA3-4AC2-A416-8325CCCA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67F65-89A5-4396-9852-FE237CD1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B7BD-D201-4158-A367-7EA3C1CC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0424-4913-4F95-9342-BACE437F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AB2B-2B74-4A23-B96B-5AC19FAA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6CC3-33E0-47CE-A6F6-37EEF14A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F798-B91E-4A07-8F0B-C99563D6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2BB1F-B8CA-47AD-BFE5-DB2BD330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BEDB6-BE76-431E-83E5-50CF8E31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ADD-0415-4EDF-A304-C3775264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CD8DE-604B-49FD-8BC2-EE6B7E74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B4DD3-2B37-4AC4-98F7-B2815AE7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9FD92-97C6-4274-9E9B-75B7D09E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41017-9AC1-46C7-8AC0-EB8E1D50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0D6F6-7C4C-4108-8DCA-E4D9297A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4D0C-5D2A-4272-AF90-0C2C2D86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C041F-A9BE-4FB1-8854-EBC24E53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E1F33-FBC3-421C-B5A1-E4D079BC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4D5A5-A42A-44DC-99E1-9D424DF1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A3FFB-E175-4C89-9B87-CE822261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A3D-D805-4EFB-96C8-4222E29A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7C9D8-172B-4FAF-A248-1073C88A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D76D-0BAA-44B9-9364-9A9DFADE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4EBBD-FC19-4B88-9F14-B5088098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A835A-0D2F-4CDF-910A-6A72F467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FD243-99A8-478B-ACCE-03586143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AC85A-9CBC-46B2-90C1-D194104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AACE-9E34-4465-A00B-CFDE8978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185C4-8475-4869-B3C0-4D9873A1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BC89B-9E0B-41B6-B879-64F211A2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41EFC-0EEA-41EF-BFEF-EF12CE08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CD0-F7E4-4A8A-9EAF-20DABD72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04BCD-E0B2-4056-AACB-10E5CB30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88695-AD6E-4F35-BE18-52DE4363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89204-65FC-4457-9A2C-4891AF16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6B1AD-B9B6-4AE7-911C-A2596B61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95FE8-D7F8-4D94-81C6-62B9DA39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D58CE-8568-4B05-891F-1D809FA3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A963B-A13D-451F-B1F4-FA3E7409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E429F-5B30-4644-9827-F58858E5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9B5F-9B41-44E4-B744-12C6C3E7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098E8-9275-4560-B96D-E63A89C9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45E-E6F3-4689-B2DD-09F54447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60351-5DF9-4A13-B155-435A72CC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69A9-AB61-4057-A69D-934953CC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678B3-359C-4432-AAA7-0206F2E4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37F47-898A-438C-8C99-24BBC012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C8930-D8F4-4566-9AFF-099C40DD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80146-9DD1-4238-B50F-1DB29914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86CC3-AD41-4872-BFF5-4737C77A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9AE6B-5463-4608-8FCC-43904945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862E2-5252-473B-8B98-215968D0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EAA66-B07D-47A2-B3F2-A50062E7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AA0-9094-486A-8EB8-89AF107F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969E5-D68D-4446-8344-ACCC7D43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EBF62-CEA4-47E7-B9F7-EBD344C7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B1DED-AAEE-40FE-98C3-842A43E0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1FD3B-18E8-4599-9F10-58D6D10A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6ADC7-B440-4918-9A6C-ED7BF94B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4B143-871A-4663-8A52-471FC922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B7BAD-F395-4FF2-9376-C7544D52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D3199-C164-434A-8CC5-DA019277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7DE77-1496-4590-A7CC-7D540E8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36D0F-B031-4542-B2A8-4A578981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440-596F-445A-B372-00FD3ADE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10C47-F8BF-4266-AE35-D49A8DFE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70802-7710-4132-B1E4-9143894E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A401C-B5B1-401A-9AED-2CA08E71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1BE5E-0162-428C-B356-2CBF90A8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D9CE9-0862-4BFC-8D0C-C12CBA7C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60F75-5114-472B-93FE-FE72E851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BA871-CF60-4091-B044-A9ED49AE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6E142-C7AD-4BEC-B83B-7BB95E0A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1CFA7-F3A3-4365-B3C5-CD849A1A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25926-E435-4D88-B035-134EBC72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E193-A9ED-4973-B85D-E460FB9C64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2CEC-7E6C-4D1A-9EE6-FCF200443C3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0078-1063-410B-9648-C64BFBFFE1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0D3E-D284-4C77-8271-0FFEB0D378B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DFDB-D70A-4845-A693-0381756EC38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1B13-503A-42B6-8323-9A27B27076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0B75-0AFD-4CD8-BCFA-813A25F254C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04BA-983E-4F73-A790-1E43AC92AB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101A-2B69-460F-B59B-6ACDCD90549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C39F-C82A-4D45-9D32-9B3B6EC279B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3054-52CF-4509-8DF5-85429D77CF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1BFA-DE27-4A0A-BEF0-13FB4441D7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Yad71lj-m0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530280" y="944640"/>
            <a:ext cx="7778520" cy="21826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0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riefing by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Roque Vinicio Césped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Finally Here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The </a:t>
            </a:r>
            <a:r>
              <a:rPr b="0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MOST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 awaited briefing ever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ebruary 16, 201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04" name="Picture 5" descr="C:\Users\Roque V. Cespedes\AppData\Local\Microsoft\Windows\Temporary Internet Files\Content.IE5\7JXY5D6C\MC900438251[1].wmf"/>
          <p:cNvPicPr/>
          <p:nvPr/>
        </p:nvPicPr>
        <p:blipFill>
          <a:blip r:embed="rId2"/>
          <a:stretch/>
        </p:blipFill>
        <p:spPr>
          <a:xfrm>
            <a:off x="2952720" y="5257800"/>
            <a:ext cx="1847880" cy="12254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C:\Users\Roque V. Cespedes\AppData\Local\Microsoft\Windows\Temporary Internet Files\Content.IE5\7JXY5D6C\MC900438205[1].wmf"/>
          <p:cNvPicPr/>
          <p:nvPr/>
        </p:nvPicPr>
        <p:blipFill>
          <a:blip r:embed="rId3"/>
          <a:stretch/>
        </p:blipFill>
        <p:spPr>
          <a:xfrm>
            <a:off x="4343400" y="5181480"/>
            <a:ext cx="152100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Tit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08800" cy="1530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168120" y="1295280"/>
            <a:ext cx="8823600" cy="4708800"/>
          </a:xfrm>
          <a:prstGeom prst="rect">
            <a:avLst/>
          </a:prstGeom>
          <a:ln w="76320">
            <a:solidFill>
              <a:srgbClr val="0070c0"/>
            </a:solidFill>
            <a:prstDash val="lgDashDotDot"/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Title 3" descr=""/>
          <p:cNvPicPr/>
          <p:nvPr/>
        </p:nvPicPr>
        <p:blipFill>
          <a:blip r:embed="rId1"/>
          <a:stretch/>
        </p:blipFill>
        <p:spPr>
          <a:xfrm>
            <a:off x="304920" y="79200"/>
            <a:ext cx="8308800" cy="15242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"/>
          <p:cNvPicPr/>
          <p:nvPr/>
        </p:nvPicPr>
        <p:blipFill>
          <a:blip r:embed="rId2"/>
          <a:stretch/>
        </p:blipFill>
        <p:spPr>
          <a:xfrm>
            <a:off x="168120" y="1271520"/>
            <a:ext cx="8823600" cy="4519800"/>
          </a:xfrm>
          <a:prstGeom prst="rect">
            <a:avLst/>
          </a:prstGeom>
          <a:ln w="76320">
            <a:solidFill>
              <a:srgbClr val="0070c0"/>
            </a:solidFill>
            <a:prstDash val="lgDashDotDot"/>
            <a:miter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itle 1" descr=""/>
          <p:cNvPicPr/>
          <p:nvPr/>
        </p:nvPicPr>
        <p:blipFill>
          <a:blip r:embed="rId1"/>
          <a:stretch/>
        </p:blipFill>
        <p:spPr>
          <a:xfrm>
            <a:off x="457200" y="-152280"/>
            <a:ext cx="8308800" cy="15303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2"/>
          <a:stretch/>
        </p:blipFill>
        <p:spPr>
          <a:xfrm>
            <a:off x="168120" y="1143000"/>
            <a:ext cx="8823600" cy="5599080"/>
          </a:xfrm>
          <a:prstGeom prst="rect">
            <a:avLst/>
          </a:prstGeom>
          <a:ln w="76320">
            <a:solidFill>
              <a:srgbClr val="0070c0"/>
            </a:solidFill>
            <a:prstDash val="lgDashDotDot"/>
            <a:miter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recorded Dem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http://www.youtube.com/watch?v=GYad71lj-m0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puter Guidance Foreca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National Center for Environmental Prediction (NCEP) and other agencies run computer models to forecast the weath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tistical guidance is often used as a first guess for a weather foreca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uidance can be decoded to provide the information necessary to make a forecast for “a point forecast” for a c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del Output Statistics (MO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8218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uter models are never perf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have systematic errors (“biases”) that depend on the place and time, and these need to be correc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 = a blend of computer model output with historical forecast data, used to predict meteorological conditions at the surf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 about NWS weather station code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usually the same as the airport codes (usually, but not always  the first three letter of a city name), prefixed by the letter “K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Miami, FL, this is “KMI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te and Time Convers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eorological Information is given for UTC time.  This is the time zone associated with the prime Meridi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T= UTC – 5 Ho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00Z = 8:00 AM in Miam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500Z = 11:00 AM CST in Michig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0600Z = 12:00 PM PST in Californ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eorology Wind Dir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Line 4"/>
          <p:cNvSpPr/>
          <p:nvPr/>
        </p:nvSpPr>
        <p:spPr>
          <a:xfrm>
            <a:off x="4572000" y="228600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Line 5"/>
          <p:cNvSpPr/>
          <p:nvPr/>
        </p:nvSpPr>
        <p:spPr>
          <a:xfrm>
            <a:off x="1905120" y="3886200"/>
            <a:ext cx="518148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5943600" y="3657600"/>
            <a:ext cx="13716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8"/>
          <p:cNvSpPr/>
          <p:nvPr/>
        </p:nvSpPr>
        <p:spPr>
          <a:xfrm>
            <a:off x="4419720" y="4648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Line 10"/>
          <p:cNvSpPr/>
          <p:nvPr/>
        </p:nvSpPr>
        <p:spPr>
          <a:xfrm flipV="1">
            <a:off x="4419720" y="1981080"/>
            <a:ext cx="0" cy="1371600"/>
          </a:xfrm>
          <a:prstGeom prst="line">
            <a:avLst/>
          </a:prstGeom>
          <a:ln w="38160">
            <a:solidFill>
              <a:srgbClr val="f491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4724280" y="54864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000 = From the Nor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Line 12"/>
          <p:cNvSpPr/>
          <p:nvPr/>
        </p:nvSpPr>
        <p:spPr>
          <a:xfrm flipH="1">
            <a:off x="1676520" y="3657600"/>
            <a:ext cx="137160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5257800" y="38545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270 = From the We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1066680" y="38545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Constantia"/>
              </a:rPr>
              <a:t>090 = From the Ea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343400" y="187308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9100"/>
                </a:solidFill>
                <a:latin typeface="Constantia"/>
              </a:rPr>
              <a:t>180 = From the Sou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398520" y="5629320"/>
            <a:ext cx="34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nd Speed is in KNOTS (k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TextBox 1"/>
          <p:cNvSpPr/>
          <p:nvPr/>
        </p:nvSpPr>
        <p:spPr>
          <a:xfrm>
            <a:off x="152280" y="1981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1 kts = 1.15 mp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Title 3" descr=""/>
          <p:cNvPicPr/>
          <p:nvPr/>
        </p:nvPicPr>
        <p:blipFill>
          <a:blip r:embed="rId1"/>
          <a:stretch/>
        </p:blipFill>
        <p:spPr>
          <a:xfrm>
            <a:off x="23760" y="79200"/>
            <a:ext cx="8607600" cy="15242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"/>
          <p:cNvPicPr/>
          <p:nvPr/>
        </p:nvPicPr>
        <p:blipFill>
          <a:blip r:embed="rId2"/>
          <a:stretch/>
        </p:blipFill>
        <p:spPr>
          <a:xfrm>
            <a:off x="168120" y="1219320"/>
            <a:ext cx="8823600" cy="5310000"/>
          </a:xfrm>
          <a:prstGeom prst="rect">
            <a:avLst/>
          </a:prstGeom>
          <a:ln w="76320">
            <a:solidFill>
              <a:srgbClr val="0070c0"/>
            </a:solidFill>
            <a:prstDash val="lgDashDotDot"/>
            <a:miter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S Abbrevi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DT 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= The day of the month, denoted by the standard three or four letter abbreviatio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HR 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= Hour of the day in UTC time. This is the hour at which the forecast is valid, or if the forecast is valid for a period, the end of the forecast period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N/X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nighttime minimum/daytime maximum surface temperatures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TMP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surface temperature valid at that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DPT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surface dewpoint valid at that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CLD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forecast categories of total sky cover valid at that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WDR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forecasts of the 10-meter wind direction at the hour, given in tens of degrees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WSP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forecasts of the 10-meter wind speed at the hour, given in knots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P06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probability of precipitation (PoP) during a 6-h period ending at that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P12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PoP during a 12-h period ending at that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Q06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quantitative precipitation forecast (QPF) category for liquid equivalent precipitation amount during a 6-h period ending at that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Q12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QPF category for liquid equivalent precipitation amount during a 12-h period ending at the indicated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SNW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snowfall categorical forecasts during a 24-h period ending at the indicated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T06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probability of thunderstorms/conditional probability of severe thunderstorms during the 6-hr period ending at the indicated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T12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probability of thunderstorms/conditional probability of severe thunderstorms during the 12-hr period ending at the indicated tim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POZ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conditional probability of freezing pcp occurring at the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POS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conditional probability of snow occurring at the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TYP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conditional precipitation type at the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CIG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ceiling height categorical forecasts at the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VIS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visibility categorical forecasts at the hou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OBV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 = obstruction to vision categorical forecasts at the hour.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26440" cy="18842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8534160" cy="529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0:42:35Z</dcterms:created>
  <dc:creator>Roque V. Cespedes</dc:creator>
  <dc:description/>
  <dc:language>en-US</dc:language>
  <cp:lastModifiedBy>Roque V. Cespedes</cp:lastModifiedBy>
  <dcterms:modified xsi:type="dcterms:W3CDTF">2011-02-16T12:21:18Z</dcterms:modified>
  <cp:revision>49</cp:revision>
  <dc:subject/>
  <dc:title>Rainfall Climatology of Florida and the Caribbean</dc:title>
</cp:coreProperties>
</file>